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E2C-FB91-47FE-AAF2-2411381E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797-47BE-4C3F-B130-6ACF2789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342-BFCB-4016-B0FE-9257B3F1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D77-3CF1-4A4B-9FFE-84D7A6BA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414-91AA-4EBD-A21D-5A3AC1AD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FBE-CBDD-4C13-AB7E-C6ABABAE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A10-C9F9-4097-858E-C08F1EFA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945-62B2-4AF1-88F0-5A3DA672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7AF-A490-41B3-A749-2BCC7A68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B99-DF1A-4EC3-AAB7-FFDE754D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557-153C-4541-8713-13C53CD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1BB-451A-4F2E-B1D4-59BFB898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1C7C-BD13-4D8D-B64C-643CC055B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495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ric Conversions Ladder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j00788050000[1]"/>
          <p:cNvPicPr/>
          <p:nvPr/>
        </p:nvPicPr>
        <p:blipFill>
          <a:blip r:embed="rId2"/>
          <a:stretch/>
        </p:blipFill>
        <p:spPr>
          <a:xfrm>
            <a:off x="762120" y="3581280"/>
            <a:ext cx="2943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54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58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dder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umps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62" name="Freeform 67"/>
            <p:cNvSpPr/>
            <p:nvPr/>
          </p:nvSpPr>
          <p:spPr>
            <a:xfrm>
              <a:off x="1308240" y="558720"/>
              <a:ext cx="1092240" cy="66060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65" name="Freeform 68"/>
            <p:cNvSpPr/>
            <p:nvPr/>
          </p:nvSpPr>
          <p:spPr>
            <a:xfrm>
              <a:off x="2374920" y="838080"/>
              <a:ext cx="1092240" cy="66060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68" name="Freeform 69"/>
            <p:cNvSpPr/>
            <p:nvPr/>
          </p:nvSpPr>
          <p:spPr>
            <a:xfrm>
              <a:off x="3441600" y="1117440"/>
              <a:ext cx="1092240" cy="660600"/>
            </a:xfrm>
            <a:custGeom>
              <a:avLst/>
              <a:gdLst>
                <a:gd name="textAreaLeft" fmla="*/ 0 w 1092240"/>
                <a:gd name="textAreaRight" fmla="*/ 1092600 w 109224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72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75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79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80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84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85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329760"/>
                  <a:gd name="textAreaBottom" fmla="*/ 329760 h 329760"/>
                </a:gdLst>
                <a:ahLst/>
                <a:rect l="textAreaLeft" t="textAreaTop" r="textAreaRight" b="textAreaBottom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89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90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-36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_ 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 cm = _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98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99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57200" y="9907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) 250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57200" y="9907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_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_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4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.19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) 2500 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.0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5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6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_8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_5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.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111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0"/>
            <p:cNvSpPr/>
            <p:nvPr/>
          </p:nvSpPr>
          <p:spPr>
            <a:xfrm>
              <a:off x="70484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380880"/>
            <a:ext cx="83059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re using &lt;, &gt;, or =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) 63 cm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lt;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7) 5 g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8 m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9) 1,500 mL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1.5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6) 536 cm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53.6 d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) 43 mg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5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) 3.6 m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&gt;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Denice Fogel User</cp:lastModifiedBy>
  <dcterms:modified xsi:type="dcterms:W3CDTF">2013-01-16T01:49:01Z</dcterms:modified>
  <cp:revision>31</cp:revision>
  <dc:subject/>
  <dc:title>Slide 1</dc:title>
</cp:coreProperties>
</file>